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EFF-B4F5-48C9-A95A-3D99C6B8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55F-4334-421E-AF1B-31E08DF5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F9FB4-0917-4B75-B0DF-09002397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F1181-963C-4F3F-9107-CFC861E6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FD564-859C-4393-9561-D5226A14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63C6F-7DCC-4969-B8C9-C56F7D87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5C8E2-0F69-4FB3-9A62-378E30C0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DA59A-5E53-4F1C-B484-0CE82B97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6D2F7-1829-4104-ADB0-66DEE8F5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DC77F-00A1-487A-8C1C-67C4EC7E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F255A-0B8C-402D-8B5F-1ACBE3BE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12D64-DB6E-47D3-B808-2A79BA0A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3275-B7D6-48A8-B079-DC499306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99566-F6AD-4D8D-8503-6C398706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80689-FF2E-4A39-8386-8300AB25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9BDFA-354F-470B-9399-FCFCB2D7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DD71B-52BA-48AF-BBD9-3CCA9DCB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411FD-CFD4-4491-8646-AA4E3F99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248C5-1D55-4BF0-A94B-A9DC9E98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8E4D7-2858-4995-98F1-4FEC8772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3036F-FEA7-4765-A686-3BFB40EC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F28AA-8553-4AD6-A1EF-BE6AB659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318F8-3194-49F1-98C7-77D06377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C2C-B2B0-4982-BEA3-ED8BD568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E49C5-563D-4649-A5A6-761B382F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4494F-4CAC-4BA0-92B1-5838CD0D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4D108-AC88-40EB-8BB6-8E66DC31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F8B92-D61F-46E4-8FF3-CF88509E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B2B5E-D40E-4BC5-A032-B7D54B7D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E0456-D394-4210-8F6C-898E4EFB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653A0-51A7-4705-A0B9-2DB8EAA9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84D5D-2D2B-43AD-8D94-ABEB0C39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D7350-5294-44AC-AB50-FFD9C31F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D36EC-F695-467F-8783-1CF9455D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FC55-08A5-434A-822E-E66AB536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26893-D311-4320-BFF5-2EF46763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0DF17-DB22-4FB8-B786-88FCE3FE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05202-55FB-40B9-A948-7472837B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1D5CC-2B64-45E1-B535-1E748C21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7B480-5747-4595-A3ED-1F99A004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4C82C-7D18-4ADA-977D-D410CC16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D42B1-D811-4C3B-8D54-1725FC6F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67928-9C93-4337-9993-946C9F22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425AF-6911-4C4B-86C0-C685A683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1B1F8-7541-4258-A0E0-D706EF08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79B4-AD60-4FF1-B58D-098F0037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EF024-221A-4267-97C6-67CB8973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40068-8498-4F4C-92E8-85BC6FF3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302CE-4E78-4CEA-A95C-E8A648F5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8AA1A-8B3F-47E0-8078-63F890B6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7D1A3-D3E6-4361-A622-C7A0658E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534279-3483-4171-98DA-AAA9BEE0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B31E6D-9563-49B7-A91B-278111FC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8DED7B-839A-4D60-AB19-4AD1FBED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5E9D18-E668-4D54-9979-F4FA8003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AD0D87-6B86-4372-88E2-CFE9D183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8BF1-530E-413B-B39D-84D6771D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0CAFFB-FACB-4068-92E4-EE8A9438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AA44E3-7340-4CAF-9700-1BEA815C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8EF143-C0B2-4232-80CD-6D4A50B7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078BB-658A-4834-8C42-969843CC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3E4CD6-0089-4415-83A4-3CA51082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9A63F-281F-44A9-981C-E3FC7E5E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B090D-1B97-40C5-9ABE-2B326766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2D16A1-624F-4006-B70E-A6C2910E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0BD5A8-371E-4B93-916E-808279B2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8A9EE8-5F28-4F95-B795-E7217558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F470-5281-4670-BB20-09AE86DF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F03688-CFA2-4865-8B3F-735E6417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10A8DD-7E8D-47F2-861B-FAADEC3C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2C01AB-38CA-4473-84B8-54643B27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FC99A0-CA13-4206-8F12-785BCE20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27E8A3-68DC-47BC-A113-7EDB4174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889DF3-8B86-4129-B188-28994C18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24E314-86CD-4717-9BFD-A5669B97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B85245-54CD-421F-987C-2E7AB685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8AEB9D-842E-4520-A81D-192B739F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59602B-9CAA-4002-9B40-7975DAF8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29BB-8E4D-416C-87C6-A3EB5973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F4F05B-682C-4A40-9FEF-ECE9D3D5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1319C5-6C67-4618-8F78-D0731FE9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605803-3A4F-4C3C-8CFF-D3ABFF49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7ABCE8-6EE4-4A3E-881E-04BF2F52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E4AD61-609B-4272-B1DC-3D9E0542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BFF7F2-F2ED-49DC-A23C-3D16DCCC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4EF4EF-9E67-46EA-832B-3CEC1FC3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F6FE93-E2E9-49A1-85BD-C260B079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26BAC6-E375-457B-BC15-878ADDCC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F79F94-A81C-48C8-96CF-B528C71B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2B68-CD8F-4865-A1F7-ACB12D77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E8BB9F-72CC-4411-A56F-25828BD6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10CA8D-6E85-4841-8FAF-093BC72A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61C107-44ED-4979-AAE5-D2DFDB37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C8E33A-AA40-48C4-A7C4-58C6E849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1822F6-EF0F-4587-AC66-F20FE2D2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69CD38-85ED-431C-8292-52FD9026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E29F20-F49E-45D8-91A2-ECEE766B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8CABE0-F235-4437-A57E-A5E463BA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734D68-A949-43A1-95F5-3AB8AF81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672364-7115-4C71-88AD-EF139284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FFC4-3AA3-4EF3-8C87-A62AE662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DE0326-431B-4BB0-A0F6-AEAF599B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0AD514-D9ED-4573-AA67-9129EA8F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189BAD-598B-4E54-9E15-0340AAE5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241A62-06B5-40FA-9DD3-EEB023DB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4E0D62-645F-4916-A9B2-CC1ED62B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A11FAE-DFBD-44C5-8227-77EBE01C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A44339-D18C-4C4D-B508-7C161BBC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6D2613-4099-4A0B-B994-55C165A0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D858ED-7A5B-4E62-B0A3-B5A2B528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5DC141-BE42-4C14-B1DD-EF81BEE3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B10E-17E6-4370-A951-B39E5266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30D0-55F4-4887-BCC6-FDEF6BB9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0804BE-BEB9-4E0F-88DC-B5766762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4750FC-742A-4742-AEB6-609B8795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9DB9B4-C424-43A7-A25C-01174AA0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12DD96-ADEB-4223-B95E-19FCC7C3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618930-79A1-4D29-AB56-B02AF9C0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8DEC53-C840-42BC-A46D-4FD4866F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9CA076-A3E0-4D40-ADC5-16CB16EB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DA9BDA-6593-4FEB-B9FF-2DFEABEB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50DB83-1F71-4AF8-8010-592B69D5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432CB6-7D17-4C01-8089-61922DC2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B569-1192-40AE-A82C-A9FE7FDC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9DF2C2-90D4-4B2A-BA7C-298B6E67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CFD539-63EC-4250-9DD2-E6C27C6B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389923-9F29-4072-9F1B-F51378A4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2869F1-444E-4B77-9343-D2280146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C362CE-D6F9-47F2-BF21-8548DF36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218054-4442-4E07-B14E-2CC0E85F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E06C02-48A5-4011-9181-98E61190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47DB51-05B4-4610-9A77-B0B19497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AFE6C8-9CA7-41A7-B45E-54D39CC2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99E4FD-810E-406C-ACF9-0D4B22A5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D0BA-AAB0-408B-86F2-3C46D3EB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E853CF-945F-481E-8F16-CF45BBD9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CFDBCC-E9B5-4BC7-8A79-119957B1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46EF83-1A67-49ED-9F2B-0103FC7B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544FC3-7EF6-4513-A8E8-82CDC27A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DF3F2E-7C5A-45A8-8898-452196C5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D01CA6-226C-479C-9A71-C3B4CB88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1AF262-FFEA-4450-A56C-B96F00F6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3BABED-873F-4095-AEC4-A7D20555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AD91E9-5ADB-4E0E-B9D0-10BA9210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D1AEA0-0BD9-48B6-9B83-322178BB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3B1A-F50A-4953-89DB-225410D8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2E3673-02F4-4F65-8880-D8009BC1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B0F13D-A04A-49FB-BF16-B819129E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EEDCCB-B4AF-45D8-AB51-5028CAB8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6C169A-24D5-4FE5-90BE-D6C41894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62A3D3-19EE-4AD2-956E-6B642CDE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F434AD-B245-4448-BED1-DB936568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C3AABD-03C2-43E1-A1A7-55BA879E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15B73C-52BB-4921-9F3B-DE1C0F0C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AB7272-39DB-4CC8-BC72-284D6A71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3907C3-960A-4318-9A14-1BAEEAFC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DDC9-4DD9-4DFA-B538-98FEFFAC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EA8D8D-7C29-40A7-B09F-63DF51E8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457460-393E-4A65-B262-F4884F85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144A33-A694-4039-B834-9DC8329E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C936E2-DEB8-4F61-8832-DF04A963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7C6D21-667C-4836-9602-936B8B3D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7677AD-5EF7-4F01-B5D2-5ECABAA9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65D138-BAFC-4EBC-84F3-5A641484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D2A9AD-180A-4191-8872-68612660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F35A33-4D95-40DC-95FE-6FC848D9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0FB848-C7FB-4F32-AC51-C6EDEAD6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C1A55-C150-4FCB-9DB0-D6AE86DC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61715D-FC57-427D-89CC-1D95F9CF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F7B31B-91C8-4EF9-9398-33E5782B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AA7ED3-AD02-4C7A-9155-474E7EC5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D3072-F65E-4E60-B103-3187FD5B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46E9A-8B20-4A57-B39B-1EFB3D2C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1592F-8CB7-45C7-A5B8-599BF449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6421F-9FD4-4A53-BCAB-62F67A43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AD9C-7F0F-4730-9042-1A5341F9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4AFD4-96BC-4FDA-944D-118C2848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9BF26-E109-4BDC-9F12-AE06EFE0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9CAB4-07E1-4664-AAF0-15C6E1F1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66841-C62A-402C-9B6B-B819DDFC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2F0E0-0913-4CCD-91C7-B9BC50D2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48D28-E27E-4C10-AAAA-A2E39C56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D1038-079F-4F17-8ACF-2E666982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1DD4E-2ADD-4557-AE27-ADFFBB3D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2EA2B-6582-467B-91A9-4B454169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57637-BE7E-4F32-B1C0-D65DA79D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B573-3BE0-4B60-922D-3A9BFFDB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E6C41-5AB2-48AD-9E46-1A075639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02F05-DF34-47FA-806E-E50A0633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D0685-D49D-4D22-9BB3-CABEEF8E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B1775-F3D9-4354-80B3-7E7EC3A9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548AA-19C0-4E35-B53E-A9DD5DCB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7571E-89D4-4F99-82C2-BE03A4C6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5AB96-8381-4F2D-8CD5-62DF27B8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62B36-A6A9-46EF-AD04-0456F372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36BA0-C89D-458F-8E10-0F1452DC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31F2C-31A8-42E4-A62A-63D8F686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0594-32A3-46BC-BF65-5B99F3D0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E77C9-50E9-4989-9F26-5406E9DB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507D2-7121-4FA9-9E19-0A81C86C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86306-B05C-4BFC-AD72-FBD93121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607F9-5C7C-4590-9AF1-AE23C923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4D95D-90EE-4BE6-AF07-4CF6ADF9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A20B5-3490-4920-BC8B-757B48F7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E71AB-2BF6-46B9-80DA-BE5C2B21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65561-134F-41FB-895C-F00B94D4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52F79-94C7-45C7-85FF-A4682B71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18537-EFAF-4639-B6B2-5E1645EA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2050-96B1-4D01-B47B-37521C1F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5DBFE-3D18-465A-94CB-8C3C6461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121E2-364B-4146-ACCC-D7DCC6C0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C33AF-3B08-47C8-B8CF-9D4B5692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219D7-9E3A-4851-8642-2C5CE425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4AC61-1B94-4FF4-A167-883AD250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6A65C-6A69-473B-AD42-F75AAE2A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1D9B5-8139-4A89-BB77-77883B8A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5DD5E-9C15-4427-9BCB-7812917D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34348-6401-4C12-ADC9-39A05ED1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B6291-8246-4BF0-939D-C13FD238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668E-B607-4530-B429-193DEDEE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6E1D5-CD10-4556-B74E-B4D072E1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CC237-D6B4-4F89-93E7-F06FB144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2769E-71F3-4CB5-90D2-D03F48D0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77550-ABA1-4D79-B1B8-E7B04344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2B0B9-8A11-467F-893C-E0A372EF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BB0AE-2ED0-47CB-9811-E1E86518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AECFC-921C-40E1-B3E0-3826AB61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92EB4-0A1B-42A0-BE51-89FC04D8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C2BE5-8D4D-4C63-8DB5-E4E3D1C8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A6E11-1D5F-4B53-A04C-54A8263B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A989-99A6-44FA-8188-72479678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AE70E-2FC6-473D-A877-5514174A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167A8-811C-4636-922E-B724CB3F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D6240-9F26-441A-B1D9-851297DB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DF25D-8AF6-499C-B2AD-53258C43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C5562-7725-4C37-9B1F-C5A39713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347D9-1F0B-4D3B-8AA6-0271F82B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FEB40-3609-40E9-BDAC-982F3E94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A5E08-39B6-48A2-9A93-7CEC39E4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C53EE-481A-4C0C-9F0A-A887EE5A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12491-0261-42A6-83B5-0D121979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B7B-3236-4249-98BB-6810A2BA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4D1BE-72D2-4ADF-B965-E3B6867D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02DDC-5FD1-4731-B9C3-F1A2F481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97479-1960-4A70-8382-E7A72106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204B3-0A50-426A-93F9-7F5F9237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833C9-862F-4B89-ACB0-38E138C8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D6C60-C41F-47D4-96A2-1ADC629E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9DD3F-C355-4743-AAE5-54FA7B4C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5DF7E-B6A9-47E5-943C-739BFF77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CC0DA-C0CD-443A-AD9B-33142045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979AE-5058-41B5-A42C-39717FD5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485A-A5BA-4D9E-AC9A-CAB7971AB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1E86-1DE5-4A47-A31F-FB6F002931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2C8F-5064-4BDF-9956-2CF4E98D99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6D87-F5F1-4DA9-82EC-A310776A6F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64BA-3786-48BE-AC1C-0562FC3AAA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3A56-0202-4B9F-907C-5E564355B5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AD21-33E1-4E50-845D-0783B73D3A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C654-063B-4B5B-BC4A-4D81012248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2F42-20BF-441C-995F-88C8048A5C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13D0-4302-40EC-BDE7-040015446A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836C-179D-426B-8614-CAF4D6B2FB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279E-53F5-45FC-97A1-9B8B8C4CFE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0A22-2AFF-490D-8831-23B0FBEAC3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C57C-7951-4EE2-8F0A-340619A87B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5BF2-8DD3-4B4D-BE60-BD0E110F01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7B59-216D-44D1-9B6B-489AB4DFF9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6C98-1A04-47B7-A332-A0AB983516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A91B-0063-4A58-96C0-A94E78C167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F84F-5FDD-4EE8-B039-474894B91B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0FB1-CF89-4796-B5BB-AD16DAC24B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1A74-16E0-419B-8784-2DB957CF64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0ABD-AFC3-42A8-B474-B4BC29DCF0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E88F-98F7-46C2-818D-342CEBCDD6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D5CD-AEE6-46E0-AA73-1B4497C608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201D-6513-4A62-8784-D9683AE17E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FD99-67C8-419B-A0B0-899C22718F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B505-17AA-4A06-A029-825A88C75C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CFBB-7010-49D0-9BCF-B3FCB900E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E057-DEF0-435E-B923-5A4832B346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6EA8-FC02-460B-AF7F-43DEEC407F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450D-391D-406C-BCA8-A20E9F7CDA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C2CF-F99C-4C2D-B89E-978B0F463D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1F2F-2D03-44D8-9C0B-496DF52E81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BDEB-903F-4DE2-8E73-A64B0021DC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F52D-0461-4DC3-897F-E0CE8F4781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9643-6B42-46DE-88B9-2423CE6C22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3B27-B25F-4D3A-9798-15F83FD49A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4257-E682-4E3C-AAA4-D0047CF61C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4C43-A9F6-4315-9690-01D41DD39D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10FC-E2EA-4BEC-B3E4-222922D0E5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2" descr=""/>
          <p:cNvPicPr/>
          <p:nvPr/>
        </p:nvPicPr>
        <p:blipFill>
          <a:blip r:embed="rId1"/>
          <a:stretch/>
        </p:blipFill>
        <p:spPr>
          <a:xfrm>
            <a:off x="1533600" y="2967120"/>
            <a:ext cx="60768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4" descr=""/>
          <p:cNvPicPr/>
          <p:nvPr/>
        </p:nvPicPr>
        <p:blipFill>
          <a:blip r:embed="rId1"/>
          <a:stretch/>
        </p:blipFill>
        <p:spPr>
          <a:xfrm>
            <a:off x="366840" y="1111320"/>
            <a:ext cx="8410320" cy="49816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3" descr=""/>
          <p:cNvPicPr/>
          <p:nvPr/>
        </p:nvPicPr>
        <p:blipFill>
          <a:blip r:embed="rId2"/>
          <a:stretch/>
        </p:blipFill>
        <p:spPr>
          <a:xfrm>
            <a:off x="7548480" y="3738600"/>
            <a:ext cx="1190880" cy="5144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" descr=""/>
          <p:cNvPicPr/>
          <p:nvPr/>
        </p:nvPicPr>
        <p:blipFill>
          <a:blip r:embed="rId3"/>
          <a:stretch/>
        </p:blipFill>
        <p:spPr>
          <a:xfrm>
            <a:off x="4275000" y="4548240"/>
            <a:ext cx="87660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Picture 2" descr=""/>
          <p:cNvPicPr/>
          <p:nvPr/>
        </p:nvPicPr>
        <p:blipFill>
          <a:blip r:embed="rId1"/>
          <a:stretch/>
        </p:blipFill>
        <p:spPr>
          <a:xfrm>
            <a:off x="347760" y="1209600"/>
            <a:ext cx="8448480" cy="44388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3" descr=""/>
          <p:cNvPicPr/>
          <p:nvPr/>
        </p:nvPicPr>
        <p:blipFill>
          <a:blip r:embed="rId2"/>
          <a:stretch/>
        </p:blipFill>
        <p:spPr>
          <a:xfrm>
            <a:off x="5297400" y="1225440"/>
            <a:ext cx="857160" cy="6001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" descr=""/>
          <p:cNvPicPr/>
          <p:nvPr/>
        </p:nvPicPr>
        <p:blipFill>
          <a:blip r:embed="rId3"/>
          <a:stretch/>
        </p:blipFill>
        <p:spPr>
          <a:xfrm>
            <a:off x="7191360" y="2095560"/>
            <a:ext cx="1123920" cy="7048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5" descr=""/>
          <p:cNvPicPr/>
          <p:nvPr/>
        </p:nvPicPr>
        <p:blipFill>
          <a:blip r:embed="rId4"/>
          <a:stretch/>
        </p:blipFill>
        <p:spPr>
          <a:xfrm>
            <a:off x="1452600" y="4834080"/>
            <a:ext cx="99072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Picture 2" descr=""/>
          <p:cNvPicPr/>
          <p:nvPr/>
        </p:nvPicPr>
        <p:blipFill>
          <a:blip r:embed="rId1"/>
          <a:stretch/>
        </p:blipFill>
        <p:spPr>
          <a:xfrm>
            <a:off x="385920" y="1066680"/>
            <a:ext cx="8372160" cy="5315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4" descr=""/>
          <p:cNvPicPr/>
          <p:nvPr/>
        </p:nvPicPr>
        <p:blipFill>
          <a:blip r:embed="rId2"/>
          <a:stretch/>
        </p:blipFill>
        <p:spPr>
          <a:xfrm>
            <a:off x="1500120" y="2023920"/>
            <a:ext cx="1071720" cy="500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4" descr=""/>
          <p:cNvPicPr/>
          <p:nvPr/>
        </p:nvPicPr>
        <p:blipFill>
          <a:blip r:embed="rId3"/>
          <a:stretch/>
        </p:blipFill>
        <p:spPr>
          <a:xfrm>
            <a:off x="5334120" y="2023920"/>
            <a:ext cx="1785960" cy="500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4" descr=""/>
          <p:cNvPicPr/>
          <p:nvPr/>
        </p:nvPicPr>
        <p:blipFill>
          <a:blip r:embed="rId4"/>
          <a:stretch/>
        </p:blipFill>
        <p:spPr>
          <a:xfrm>
            <a:off x="1500120" y="2928960"/>
            <a:ext cx="1071720" cy="500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"/>
          <p:cNvPicPr/>
          <p:nvPr/>
        </p:nvPicPr>
        <p:blipFill>
          <a:blip r:embed="rId5"/>
          <a:stretch/>
        </p:blipFill>
        <p:spPr>
          <a:xfrm>
            <a:off x="5334120" y="2917800"/>
            <a:ext cx="1357200" cy="4986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4" descr=""/>
          <p:cNvPicPr/>
          <p:nvPr/>
        </p:nvPicPr>
        <p:blipFill>
          <a:blip r:embed="rId6"/>
          <a:stretch/>
        </p:blipFill>
        <p:spPr>
          <a:xfrm>
            <a:off x="1571760" y="3786120"/>
            <a:ext cx="1857240" cy="500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4" descr=""/>
          <p:cNvPicPr/>
          <p:nvPr/>
        </p:nvPicPr>
        <p:blipFill>
          <a:blip r:embed="rId7"/>
          <a:stretch/>
        </p:blipFill>
        <p:spPr>
          <a:xfrm>
            <a:off x="5226120" y="3809880"/>
            <a:ext cx="10713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2" descr=""/>
          <p:cNvPicPr/>
          <p:nvPr/>
        </p:nvPicPr>
        <p:blipFill>
          <a:blip r:embed="rId1"/>
          <a:stretch/>
        </p:blipFill>
        <p:spPr>
          <a:xfrm>
            <a:off x="271440" y="1160640"/>
            <a:ext cx="8601120" cy="50767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4" descr=""/>
          <p:cNvPicPr/>
          <p:nvPr/>
        </p:nvPicPr>
        <p:blipFill>
          <a:blip r:embed="rId2"/>
          <a:stretch/>
        </p:blipFill>
        <p:spPr>
          <a:xfrm>
            <a:off x="1392120" y="2048040"/>
            <a:ext cx="1071720" cy="500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4" descr=""/>
          <p:cNvPicPr/>
          <p:nvPr/>
        </p:nvPicPr>
        <p:blipFill>
          <a:blip r:embed="rId3"/>
          <a:stretch/>
        </p:blipFill>
        <p:spPr>
          <a:xfrm>
            <a:off x="1370160" y="2940120"/>
            <a:ext cx="630000" cy="500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4" descr=""/>
          <p:cNvPicPr/>
          <p:nvPr/>
        </p:nvPicPr>
        <p:blipFill>
          <a:blip r:embed="rId4"/>
          <a:stretch/>
        </p:blipFill>
        <p:spPr>
          <a:xfrm>
            <a:off x="2214720" y="3821040"/>
            <a:ext cx="1071360" cy="500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4" descr=""/>
          <p:cNvPicPr/>
          <p:nvPr/>
        </p:nvPicPr>
        <p:blipFill>
          <a:blip r:embed="rId5"/>
          <a:stretch/>
        </p:blipFill>
        <p:spPr>
          <a:xfrm>
            <a:off x="4214880" y="3857760"/>
            <a:ext cx="1071360" cy="500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4" descr=""/>
          <p:cNvPicPr/>
          <p:nvPr/>
        </p:nvPicPr>
        <p:blipFill>
          <a:blip r:embed="rId6"/>
          <a:stretch/>
        </p:blipFill>
        <p:spPr>
          <a:xfrm>
            <a:off x="1309680" y="4738680"/>
            <a:ext cx="1071720" cy="500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4" descr=""/>
          <p:cNvPicPr/>
          <p:nvPr/>
        </p:nvPicPr>
        <p:blipFill>
          <a:blip r:embed="rId7"/>
          <a:stretch/>
        </p:blipFill>
        <p:spPr>
          <a:xfrm>
            <a:off x="7429680" y="4727520"/>
            <a:ext cx="10713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Picture 2" descr=""/>
          <p:cNvPicPr/>
          <p:nvPr/>
        </p:nvPicPr>
        <p:blipFill>
          <a:blip r:embed="rId1"/>
          <a:stretch/>
        </p:blipFill>
        <p:spPr>
          <a:xfrm>
            <a:off x="324000" y="782640"/>
            <a:ext cx="7677000" cy="16383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4" descr=""/>
          <p:cNvPicPr/>
          <p:nvPr/>
        </p:nvPicPr>
        <p:blipFill>
          <a:blip r:embed="rId2"/>
          <a:stretch/>
        </p:blipFill>
        <p:spPr>
          <a:xfrm>
            <a:off x="530280" y="2722680"/>
            <a:ext cx="8362800" cy="40194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4" descr=""/>
          <p:cNvPicPr/>
          <p:nvPr/>
        </p:nvPicPr>
        <p:blipFill>
          <a:blip r:embed="rId3"/>
          <a:stretch/>
        </p:blipFill>
        <p:spPr>
          <a:xfrm>
            <a:off x="2214720" y="4452840"/>
            <a:ext cx="3071520" cy="500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4" descr=""/>
          <p:cNvPicPr/>
          <p:nvPr/>
        </p:nvPicPr>
        <p:blipFill>
          <a:blip r:embed="rId4"/>
          <a:stretch/>
        </p:blipFill>
        <p:spPr>
          <a:xfrm>
            <a:off x="1500120" y="6238800"/>
            <a:ext cx="1428840" cy="500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"/>
          <p:cNvPicPr/>
          <p:nvPr/>
        </p:nvPicPr>
        <p:blipFill>
          <a:blip r:embed="rId5"/>
          <a:stretch/>
        </p:blipFill>
        <p:spPr>
          <a:xfrm>
            <a:off x="4500720" y="622620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4" descr=""/>
          <p:cNvPicPr/>
          <p:nvPr/>
        </p:nvPicPr>
        <p:blipFill>
          <a:blip r:embed="rId6"/>
          <a:stretch/>
        </p:blipFill>
        <p:spPr>
          <a:xfrm>
            <a:off x="7797960" y="6286680"/>
            <a:ext cx="10713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3" descr=""/>
          <p:cNvPicPr/>
          <p:nvPr/>
        </p:nvPicPr>
        <p:blipFill>
          <a:blip r:embed="rId1"/>
          <a:stretch/>
        </p:blipFill>
        <p:spPr>
          <a:xfrm>
            <a:off x="328680" y="836640"/>
            <a:ext cx="8486640" cy="57625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" descr=""/>
          <p:cNvPicPr/>
          <p:nvPr/>
        </p:nvPicPr>
        <p:blipFill>
          <a:blip r:embed="rId2"/>
          <a:stretch/>
        </p:blipFill>
        <p:spPr>
          <a:xfrm>
            <a:off x="558720" y="857160"/>
            <a:ext cx="10717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Picture 2" descr=""/>
          <p:cNvPicPr/>
          <p:nvPr/>
        </p:nvPicPr>
        <p:blipFill>
          <a:blip r:embed="rId1"/>
          <a:stretch/>
        </p:blipFill>
        <p:spPr>
          <a:xfrm>
            <a:off x="376200" y="836640"/>
            <a:ext cx="8391600" cy="5838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4" descr=""/>
          <p:cNvPicPr/>
          <p:nvPr/>
        </p:nvPicPr>
        <p:blipFill>
          <a:blip r:embed="rId2"/>
          <a:stretch/>
        </p:blipFill>
        <p:spPr>
          <a:xfrm>
            <a:off x="2857680" y="4357800"/>
            <a:ext cx="1071360" cy="500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4" descr=""/>
          <p:cNvPicPr/>
          <p:nvPr/>
        </p:nvPicPr>
        <p:blipFill>
          <a:blip r:embed="rId3"/>
          <a:stretch/>
        </p:blipFill>
        <p:spPr>
          <a:xfrm>
            <a:off x="7000920" y="4357800"/>
            <a:ext cx="1071360" cy="5000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4" descr=""/>
          <p:cNvPicPr/>
          <p:nvPr/>
        </p:nvPicPr>
        <p:blipFill>
          <a:blip r:embed="rId4"/>
          <a:stretch/>
        </p:blipFill>
        <p:spPr>
          <a:xfrm>
            <a:off x="1143000" y="6072120"/>
            <a:ext cx="68580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Picture 2" descr=""/>
          <p:cNvPicPr/>
          <p:nvPr/>
        </p:nvPicPr>
        <p:blipFill>
          <a:blip r:embed="rId1"/>
          <a:stretch/>
        </p:blipFill>
        <p:spPr>
          <a:xfrm>
            <a:off x="271440" y="1309680"/>
            <a:ext cx="8601120" cy="42386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4" descr=""/>
          <p:cNvPicPr/>
          <p:nvPr/>
        </p:nvPicPr>
        <p:blipFill>
          <a:blip r:embed="rId2"/>
          <a:stretch/>
        </p:blipFill>
        <p:spPr>
          <a:xfrm>
            <a:off x="2238480" y="2297160"/>
            <a:ext cx="1071360" cy="5000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4" descr=""/>
          <p:cNvPicPr/>
          <p:nvPr/>
        </p:nvPicPr>
        <p:blipFill>
          <a:blip r:embed="rId3"/>
          <a:stretch/>
        </p:blipFill>
        <p:spPr>
          <a:xfrm>
            <a:off x="5106960" y="2286000"/>
            <a:ext cx="1500120" cy="4986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4" descr=""/>
          <p:cNvPicPr/>
          <p:nvPr/>
        </p:nvPicPr>
        <p:blipFill>
          <a:blip r:embed="rId4"/>
          <a:stretch/>
        </p:blipFill>
        <p:spPr>
          <a:xfrm>
            <a:off x="6357960" y="3156120"/>
            <a:ext cx="2357280" cy="4982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4" descr=""/>
          <p:cNvPicPr/>
          <p:nvPr/>
        </p:nvPicPr>
        <p:blipFill>
          <a:blip r:embed="rId5"/>
          <a:stretch/>
        </p:blipFill>
        <p:spPr>
          <a:xfrm>
            <a:off x="324000" y="4033800"/>
            <a:ext cx="8604000" cy="4906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4" descr=""/>
          <p:cNvPicPr/>
          <p:nvPr/>
        </p:nvPicPr>
        <p:blipFill>
          <a:blip r:embed="rId6"/>
          <a:stretch/>
        </p:blipFill>
        <p:spPr>
          <a:xfrm>
            <a:off x="324000" y="4915080"/>
            <a:ext cx="860400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8T01:11:58Z</dcterms:modified>
  <cp:revision>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